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1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3.png" ContentType="image/png"/>
  <Override PartName="/ppt/media/image8.png" ContentType="image/png"/>
  <Override PartName="/ppt/media/image6.jpeg" ContentType="image/jpe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dt" idx="2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move the slide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ftr" idx="2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6"/>
          <p:cNvSpPr>
            <a:spLocks noGrp="1"/>
          </p:cNvSpPr>
          <p:nvPr>
            <p:ph type="sldNum" idx="2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869A9-6EC7-464F-B52F-01680961B3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30FBD-364C-430D-9427-D89B94E987A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54BFD-674F-4152-9835-2966E0A5AB7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BB04-EBE4-46DF-8ADE-C57583732E3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3396-3CF6-48D8-BBA0-FC070CA755A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D339-D31C-49C1-B5A7-7659D111EB6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08876-0B5C-46CF-BC51-408291EB5AC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3C324-29CB-4C01-9B0B-E82432DFAC0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C7D2-3662-47F9-8177-3371F3C981D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975B5-8561-48DF-B774-C5B10DE02C1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2DC1D-3E47-42A3-8DA4-5FFE71153DD8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F094-1CDE-4BEA-820C-7A73DA91B41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4FCC8-D15C-48EC-BC4E-102787531392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328A9-0385-471D-89EE-3737A16D308B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C1D96-3FB6-49CF-BECD-F120E69EAE11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D8A07-5D11-4574-99FF-B9C70698151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58444-38E5-430C-9AE4-F095BBB55A3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5C7DD-0539-4F79-A15E-028653BDE54D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5ABD4-8AD4-4B1B-BC9F-355FB68A3794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13A6EA-E31B-463A-8A90-E3700C9D2F7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B8566-347E-424C-8A97-89ACE91406C9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082F3-0D33-4A79-A449-A71505F3742F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15FB-B24E-4516-8787-B36C4A4E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59916-E83B-4D91-9972-28B32196A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1A0E-EC2A-4DBA-ACA4-4E37AA888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FCEB-65B5-4836-B371-695BDDD5F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639AB-5B4E-4FCC-8F39-1DE4BAAE0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BDF78-27C7-4B23-A9CB-543DC8D74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46AD6-7091-4007-ADD8-E7700DAB6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B2E22-40D9-45B5-A533-485B2846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4FCA7-1D4D-48BF-B4D4-D39E730C5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73280-1EAF-4C2F-BEB0-65D9A3C5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570B-2764-437D-B8DC-EE2E1A118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9E05D-FC0E-4842-B2E9-006A36DF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F9CC6-0475-458B-8F2D-A4C747BFC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91FDA-299A-42B3-8B53-B7D8E0C87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58E31-3667-4923-ADC3-A243ECF87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495FB-BA7E-4D34-9C9D-3E1951F56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501D5-7FFC-4305-9DB2-0BD4AD09F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77792-C25C-4BA4-BDAA-D5693D01E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C8AD6-B931-4C98-A54C-CFC34BDA1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F042D-F8AE-4C7F-AD38-87A92EC1A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E2C9EE-4BC2-4AA6-895D-8099350A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D9D004-0447-4F42-92FD-28C7A792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51B8-9BB3-4888-935F-FB6DF0FF0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9CA752-6563-407B-BD97-1C7BEAE60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C6009F-F9F6-4CF9-BEDD-65A3719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C86FC0-F533-4BAD-BE4E-479070E14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9C89C8-ED6C-409C-8C7F-D730FEB0B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0D1EEF-9FB8-43CC-809B-0B568D069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C2778B-5DA3-4713-AAD1-569FB330E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A00FC-01E1-4E40-A3FB-9E3308882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4FCD9C-9BB8-432A-9BCB-5D4A8EE292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3A993A-11F9-4270-8688-45B438F0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EDEED0-52D6-4A10-84D0-68E5B179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6DBE4-34FE-4EE5-BC8C-2012A9D0E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06EAB-2097-47E7-805D-2C416427D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4698FA-18E0-464D-80D1-0488636C9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16DC68-F381-40F0-89DA-339EF421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B1D042-A1C4-4F7C-B2AA-6B951B56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FF4B52-8BB8-4E64-A9DA-A5610C17E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4E64D-4FE8-41A5-BC55-CE5D850E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A161A7-1C67-4E9A-95C9-E90E0E992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E8A12F-3136-4F6C-A15F-022EDF099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CB103-03A9-4B68-A742-562209E2A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E7C4FA-2600-4EB1-947E-4CC6F42B6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A43D-5F5F-4AB2-B3D7-49CCC5806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ABD3CE-D2B7-4963-8FE0-F18C56645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72C833-3890-40F8-A2D0-CCEE7E76C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5D8D6-B10D-4493-85C5-D2D909C34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202EC6-CA79-47C3-8BA1-8B76AE7D9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D14214-662F-4D48-AFED-E67643794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D9151F-58E5-4192-BE6A-9C814C111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8CBE0-BBA4-49D3-A14E-D61BDE7CF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5DB79E-A993-47F6-B6B1-03FC9E41B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A159E1-AE45-4BDC-82DD-3E5928F4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FFE1DF-36D4-473A-875A-AF2C9FD7D8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931A-F8E1-45A5-8164-970920A4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A60CAC-CDD9-477A-8948-48A615E14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F50797-D71A-4533-BAD5-65019C92B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AAAE9C-68E4-42E1-B0C3-F1DCD0FD5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23F1C-44BC-4E46-8A69-73ACFD2B3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7D0DA-95D0-46CC-B209-C95FE582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DBCCF5-C6B4-44A5-9447-914397525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AD2256-E77D-489F-8D63-414927B36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0B6D6-C31E-4D9C-9186-96746BF2C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74E5D2-620B-4572-B9C7-8C85F1D95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00722D-109D-4FD4-9A9A-84D9CAFB3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305D-AAA4-4471-982B-EA7B77A1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8E274-47B3-4EF7-9C76-DE31D8EBA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483FD1-22EB-4222-A257-3D5B80E4A2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6EFC01-9DA1-4E5E-915E-714E0BE87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B776746-2DC9-41D0-AED5-1B57C404A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7C7C8D-50F0-429F-8223-25D3A18A8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45596F-EB76-487A-857B-AFD5E3693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C7A555-8DED-41DC-893F-C2066CCE0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C79DA-EB81-4CB2-803F-B38D575B85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36292-5C5D-4EB9-A159-A6165E089D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C5F1E-DDA1-455E-8ABF-1C199D11F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6612-618B-4D43-B0E5-A1075B41C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B601A1-BB4E-49D8-A904-A6C0A9AF3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ED27BC-535D-4C40-87A3-AFAA8E40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2E4389-E2F0-42E4-89C7-C986BC917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1B093-074B-4BAB-B629-63BE486F2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678AA9-4618-469E-9A74-A8A389A0A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414636-43D9-420B-93FE-43A6530D3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9DA21CF-AF81-43F6-974A-0A8D1B193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A2B8D-5132-4E32-BA01-04DF03FCE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363357-4307-490A-B5A8-EBD1904F5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D9C74F-AC78-48C3-BBFE-166127EDB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A6A6-29A2-41F7-8497-43B843831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457200" y="267840"/>
            <a:ext cx="8229600" cy="648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51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325805-2C00-4CF5-82B1-B2E64A6EB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4B1986-1FF2-4C86-9AA6-6A740E7D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D9C872-496D-4B5D-BEF4-AD050BAA5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AADBB-F3E8-4A70-B359-13356AD55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57200" y="4271040"/>
            <a:ext cx="822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B866B3-17A8-4C74-ADE7-ABAA9947A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88280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45720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4240" y="4271040"/>
            <a:ext cx="40158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F70A7-DB45-4962-AAE8-9D3E0766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3964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22080" y="188280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5720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3964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22080" y="4271040"/>
            <a:ext cx="2649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FAF234-A31E-4343-80E0-B40BF23D2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01B9-9EDB-4A48-855C-D663D2536F12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Isosceles Triangle 9"/>
          <p:cNvSpPr/>
          <p:nvPr/>
        </p:nvSpPr>
        <p:spPr>
          <a:xfrm rot="16200000">
            <a:off x="7553160" y="525420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0101"/>
              </a:gs>
              <a:gs pos="100000">
                <a:srgbClr val="ff6c6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371240" y="601200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371240" y="5649840"/>
            <a:ext cx="5791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391600" y="5753160"/>
            <a:ext cx="5032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B66FD-4A13-428B-B0B8-5E825101A50E}" type="slidenum">
              <a:rPr b="0" lang="en-U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791240" y="64800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56840" y="6481440"/>
            <a:ext cx="42591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B6EE-18BC-4B00-9A6D-C75E96992727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ight Triangle 9"/>
          <p:cNvSpPr/>
          <p:nvPr/>
        </p:nvSpPr>
        <p:spPr>
          <a:xfrm flipV="1">
            <a:off x="6480" y="612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Isosceles Triangle 11"/>
          <p:cNvSpPr/>
          <p:nvPr/>
        </p:nvSpPr>
        <p:spPr>
          <a:xfrm flipV="1" rot="5400000">
            <a:off x="7553160" y="308160"/>
            <a:ext cx="1893960" cy="1293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b50101"/>
              </a:gs>
              <a:gs pos="100000">
                <a:srgbClr val="ff6c6c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Straight Connector 12"/>
          <p:cNvSpPr/>
          <p:nvPr/>
        </p:nvSpPr>
        <p:spPr>
          <a:xfrm flipH="1" flipV="1">
            <a:off x="6469200" y="900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Straight Connector 14"/>
          <p:cNvSpPr/>
          <p:nvPr/>
        </p:nvSpPr>
        <p:spPr>
          <a:xfrm flipV="1"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6955920" y="6477120"/>
            <a:ext cx="213372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619360" y="6481440"/>
            <a:ext cx="426096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450280" y="809280"/>
            <a:ext cx="503280" cy="29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E341-F978-472B-9A6C-5930C0A63F48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790880" y="6481800"/>
            <a:ext cx="21301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57200" y="6481800"/>
            <a:ext cx="42609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589880" y="648324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6D79C-D1B3-4F05-8186-C63E32E34E9C}" type="slidenum">
              <a:rPr b="0" lang="en-US" sz="12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278040" y="6556320"/>
            <a:ext cx="21337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34720" y="6556320"/>
            <a:ext cx="514332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410680" y="655632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0000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9D7B5-A206-4524-A9E8-EF3E5F358815}" type="slidenum">
              <a:rPr b="0" lang="en-US" sz="900" spc="-1" strike="noStrike">
                <a:solidFill>
                  <a:srgbClr val="000000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6c6c6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108840" y="6556320"/>
            <a:ext cx="21016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169640" y="6557760"/>
            <a:ext cx="49482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217000" y="6556320"/>
            <a:ext cx="3664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9D36D-39B0-4EA4-AE7B-B938894FB434}" type="slidenum">
              <a:rPr b="0" lang="en-US" sz="9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9b9b"/>
            </a:gs>
            <a:gs pos="100000">
              <a:srgbClr val="deded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ight Triangle 10"/>
          <p:cNvSpPr/>
          <p:nvPr/>
        </p:nvSpPr>
        <p:spPr>
          <a:xfrm>
            <a:off x="6480" y="14400"/>
            <a:ext cx="9131040" cy="6837120"/>
          </a:xfrm>
          <a:prstGeom prst="rtTriangle">
            <a:avLst/>
          </a:prstGeom>
          <a:gradFill rotWithShape="0">
            <a:gsLst>
              <a:gs pos="0">
                <a:srgbClr val="000000">
                  <a:alpha val="1176"/>
                </a:srgbClr>
              </a:gs>
              <a:gs pos="100000">
                <a:srgbClr val="000000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Straight Connector 7"/>
          <p:cNvSpPr/>
          <p:nvPr/>
        </p:nvSpPr>
        <p:spPr>
          <a:xfrm>
            <a:off x="0" y="6480"/>
            <a:ext cx="9137520" cy="6845040"/>
          </a:xfrm>
          <a:prstGeom prst="line">
            <a:avLst/>
          </a:prstGeom>
          <a:ln cap="rnd" w="5040">
            <a:solidFill>
              <a:srgbClr val="eaeaea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Straight Connector 8"/>
          <p:cNvSpPr/>
          <p:nvPr/>
        </p:nvSpPr>
        <p:spPr>
          <a:xfrm flipH="1">
            <a:off x="6469200" y="4947480"/>
            <a:ext cx="2673360" cy="1900440"/>
          </a:xfrm>
          <a:prstGeom prst="line">
            <a:avLst/>
          </a:prstGeom>
          <a:ln cap="rnd" w="6120">
            <a:solidFill>
              <a:srgbClr val="ececec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3" descr=""/>
          <p:cNvPicPr/>
          <p:nvPr/>
        </p:nvPicPr>
        <p:blipFill>
          <a:blip r:embed="rId2"/>
          <a:stretch/>
        </p:blipFill>
        <p:spPr>
          <a:xfrm>
            <a:off x="682560" y="1341360"/>
            <a:ext cx="7778880" cy="292572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67840"/>
            <a:ext cx="8229600" cy="13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842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5f5f"/>
                </a:solidFill>
                <a:latin typeface="Century Gothic"/>
              </a:rPr>
              <a:t>Click to edit the title text format</a:t>
            </a:r>
            <a:endParaRPr b="0" lang="en-US" sz="4200" spc="-1" strike="noStrike">
              <a:solidFill>
                <a:srgbClr val="ff5f5f"/>
              </a:solidFill>
              <a:latin typeface="Century Gothic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457200" y="18828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751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3" marL="1371600" indent="-209520">
              <a:spcBef>
                <a:spcPts val="75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4" marL="1600200" indent="-209520">
              <a:spcBef>
                <a:spcPts val="751"/>
              </a:spcBef>
              <a:buClr>
                <a:srgbClr val="ff929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5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6" marL="1600200" indent="-209520">
              <a:spcBef>
                <a:spcPts val="751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4791240" y="6481800"/>
            <a:ext cx="21333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83F4A-3CA8-44C7-A0F9-1F211B03C54C}" type="datetime">
              <a:rPr b="0" lang="en-US" sz="1000" spc="-1" strike="noStrike">
                <a:solidFill>
                  <a:srgbClr val="ffffff"/>
                </a:solidFill>
                <a:latin typeface="Century Gothic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456840" y="6481800"/>
            <a:ext cx="425916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7589880" y="6481800"/>
            <a:ext cx="503280" cy="3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283F8-5F36-4053-A835-FAF4529BB9A5}" type="slidenum">
              <a:rPr b="0" lang="en-US" sz="12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Title 1" descr=""/>
          <p:cNvPicPr/>
          <p:nvPr/>
        </p:nvPicPr>
        <p:blipFill>
          <a:blip r:embed="rId1"/>
          <a:stretch/>
        </p:blipFill>
        <p:spPr>
          <a:xfrm>
            <a:off x="469800" y="1773360"/>
            <a:ext cx="8388360" cy="1708200"/>
          </a:xfrm>
          <a:prstGeom prst="rect">
            <a:avLst/>
          </a:prstGeom>
          <a:ln w="0">
            <a:noFill/>
          </a:ln>
        </p:spPr>
      </p:pic>
      <p:pic>
        <p:nvPicPr>
          <p:cNvPr id="354" name="Subtitle 2" descr=""/>
          <p:cNvPicPr/>
          <p:nvPr/>
        </p:nvPicPr>
        <p:blipFill>
          <a:blip r:embed="rId2"/>
          <a:stretch/>
        </p:blipFill>
        <p:spPr>
          <a:xfrm>
            <a:off x="469800" y="3645000"/>
            <a:ext cx="8229600" cy="151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 txBox="1"/>
          <p:nvPr/>
        </p:nvSpPr>
        <p:spPr>
          <a:xfrm>
            <a:off x="457200" y="475920"/>
            <a:ext cx="8229600" cy="59785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IEUX DE RENCONTRE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APAA, dans les bars/Clubs pour gay, restaurant pour gay et aussi sur la rue Church qui est le village ga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Sont-ils acceptes ou rejeté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Il n’y a des mythes dans toutes sociétés, mais ici au Canada ils font face à moins de risque de rejet comparer à leur pays d’origin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212760"/>
            <a:ext cx="8229600" cy="145080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Mis en place pour desservir les nouveaux arrivants  Africains, les Caribéens et les Noirs au Canada,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ainsi que les personnes qui s’identifient comme (LGBTQ)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100000"/>
              </a:lnSpc>
              <a:spcBef>
                <a:spcPts val="7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sans oublier ceux qui s’identifient autres que LGBTQ, ce sont les hommes ayant le sexe avec les hommes (HSH). 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375760" cy="139536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6600"/>
                </a:solidFill>
                <a:latin typeface="Century Gothic"/>
              </a:rPr>
              <a:t>VIH: </a:t>
            </a:r>
            <a:r>
              <a:rPr b="1" lang="fr-CA" sz="3000" spc="-1" strike="noStrike" u="sng">
                <a:solidFill>
                  <a:srgbClr val="006600"/>
                </a:solidFill>
                <a:uFillTx/>
                <a:latin typeface="Century Gothic"/>
              </a:rPr>
              <a:t>Virus d’Immunodéficience Humain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6600"/>
                </a:solidFill>
                <a:latin typeface="Century Gothic"/>
              </a:rPr>
              <a:t>Attaque et affaiblit le système immunitair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6600"/>
                </a:solidFill>
                <a:latin typeface="Century Gothic"/>
              </a:rPr>
              <a:t>SIDA: </a:t>
            </a:r>
            <a:r>
              <a:rPr b="1" lang="fr-CA" sz="3000" spc="-1" strike="noStrike" u="sng">
                <a:solidFill>
                  <a:srgbClr val="006600"/>
                </a:solidFill>
                <a:uFillTx/>
                <a:latin typeface="Century Gothic"/>
              </a:rPr>
              <a:t>Syndrome d’Immunodéficience Acqui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6600"/>
                </a:solidFill>
                <a:latin typeface="Century Gothic"/>
              </a:rPr>
              <a:t>Une maladie chronique causée par l’infection du VIH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d9d9"/>
          </a:solidFill>
          <a:ln w="0">
            <a:noFill/>
          </a:ln>
        </p:spPr>
        <p:txBody>
          <a:bodyPr anchor="t">
            <a:normAutofit fontScale="98000"/>
          </a:bodyPr>
          <a:p>
            <a:pPr marL="438840" indent="-37476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liquides corporels qui transmettent le VI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sang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sperm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liquide recta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secrétions vaginal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lait maternel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38840" indent="-37476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modes de transmissions du VIH: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relations sexuelles non protégé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partage des accessoires sexuel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 partage ou la réutilisation des seringues et des aiguilles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D’un mère à son fœtus durant la grossesse, l’accouchement ou l’allaitement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05680" indent="-28008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326440" cy="13953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68000" y="1341360"/>
            <a:ext cx="8218440" cy="511344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 bais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peuvent se trouver dans la saliv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peuvent se transmettre par des coupures ou des plaies dans la bouche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 toucher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Certaines ITS causent des bosses, des éruptions cutanée ou du pu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 or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De nombreuses ITS peuvent se trouver dans les fluides génitaux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s vagin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lnSpc>
                <a:spcPct val="80000"/>
              </a:lnSpc>
              <a:spcBef>
                <a:spcPts val="550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99"/>
                </a:solidFill>
                <a:latin typeface="Century Gothic"/>
              </a:rPr>
              <a:t>Les liquides corporels peuvent contenir tout type d’ITS </a:t>
            </a:r>
            <a:endParaRPr b="0" lang="en-US" sz="2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lnSpc>
                <a:spcPct val="80000"/>
              </a:lnSpc>
              <a:spcBef>
                <a:spcPts val="64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Les relations anales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2060"/>
                </a:solidFill>
                <a:latin typeface="Century Gothic"/>
              </a:rPr>
              <a:t>La meilleure protection contre les ITS est de s’abstenir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2060"/>
                </a:solidFill>
                <a:latin typeface="Century Gothic"/>
              </a:rPr>
              <a:t>Autres méthodes: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es préservatifs (féminins et masculins)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’usage de seringue  unique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2060"/>
                </a:solidFill>
                <a:latin typeface="Century Gothic"/>
              </a:rPr>
              <a:t>La fidélité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b3b3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’isolemen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pleine intégr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problème d’immigration,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fréquent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stigma et la discriminatio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e jugement et le mépris de la communaut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La pauvreté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395280" y="1628640"/>
            <a:ext cx="8291520" cy="48261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just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00"/>
                </a:solidFill>
                <a:latin typeface="Century Gothic"/>
              </a:rPr>
              <a:t>Le succès de l’organisation dans le domaine de servir la communauté LGBTQ Africaine et Caraibéenne, est dû à l’approche culturelle et linguistique que nous avons au sein d’APAA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baba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APA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est une organisation qui fait de son mieux pour éduquer et véhiculer l’information sur le VIH ainsi que le support à toutes les couches de la communauté Africain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entury Gothic"/>
              </a:rPr>
              <a:t>Je lance donc un appel ardent à tous et à toutes de travailler ensemble pour aider à la bonne integration  des nouveaux arrivants LGBTQ francophones au Canada</a:t>
            </a:r>
            <a:r>
              <a:rPr b="1" lang="en-US" sz="2800" spc="-1" strike="noStrike">
                <a:solidFill>
                  <a:srgbClr val="ffffff"/>
                </a:solidFill>
                <a:latin typeface="Century Gothic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Merci beaucoup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de 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99"/>
                </a:solidFill>
                <a:latin typeface="Century Gothic"/>
              </a:rPr>
              <a:t>votre attention</a:t>
            </a:r>
            <a:endParaRPr b="0" lang="en-US" sz="4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577360" cy="13953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99"/>
                </a:solidFill>
                <a:latin typeface="Century Gothic"/>
              </a:rPr>
              <a:t>Africans in Partnership Against AIDS (APAA) est une organisation  canadienne à but non lucratif créé par les membres de la communauté africaine, pour répondre aux différents défis posés par le VIH/SIDA</a:t>
            </a:r>
            <a:r>
              <a:rPr b="0" lang="en-US" sz="3000" spc="-1" strike="noStrike">
                <a:solidFill>
                  <a:srgbClr val="000000"/>
                </a:solidFill>
                <a:latin typeface="Century Gothic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99"/>
                </a:solidFill>
                <a:latin typeface="Century Gothic"/>
              </a:rPr>
              <a:t>Questions? </a:t>
            </a:r>
            <a:endParaRPr b="0" lang="en-US" sz="9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lnSpc>
                <a:spcPct val="100000"/>
              </a:lnSpc>
              <a:spcBef>
                <a:spcPts val="10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Veuillez contacter: 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Africans in Partnership Against Aids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314 rue Jarvis Suite 101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Toronto, Ontario M5B 2C5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	</a:t>
            </a:r>
            <a:r>
              <a:rPr b="1" lang="fr-CA" sz="4000" spc="-1" strike="noStrike">
                <a:solidFill>
                  <a:srgbClr val="000000"/>
                </a:solidFill>
                <a:latin typeface="Estrangelo Edessa"/>
                <a:ea typeface="Estrangelo Edessa"/>
              </a:rPr>
              <a:t>416-924-5226</a:t>
            </a:r>
            <a:endParaRPr b="0" lang="en-US" sz="4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395280" y="18446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Rôle de premier plan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Leaderhip communautaire 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499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99"/>
                </a:solidFill>
                <a:latin typeface="Century Gothic"/>
              </a:rPr>
              <a:t>Expertise sur les questions  du SIDA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300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7030a0"/>
                </a:solidFill>
                <a:latin typeface="Century Gothic"/>
              </a:rPr>
              <a:t>Madame Fanta Ongoiba, Directrice générale d’APAA </a:t>
            </a: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59" name="Picture 3" descr=""/>
          <p:cNvPicPr/>
          <p:nvPr/>
        </p:nvPicPr>
        <p:blipFill>
          <a:blip r:embed="rId2"/>
          <a:stretch/>
        </p:blipFill>
        <p:spPr>
          <a:xfrm>
            <a:off x="1692360" y="3213000"/>
            <a:ext cx="519120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0" name="Title 1" descr=""/>
          <p:cNvPicPr/>
          <p:nvPr/>
        </p:nvPicPr>
        <p:blipFill>
          <a:blip r:embed="rId1"/>
          <a:stretch/>
        </p:blipFill>
        <p:spPr>
          <a:xfrm>
            <a:off x="457200" y="268200"/>
            <a:ext cx="8229600" cy="1395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457200" y="1628640"/>
            <a:ext cx="8229600" cy="4826160"/>
          </a:xfrm>
          <a:prstGeom prst="rect">
            <a:avLst/>
          </a:prstGeom>
          <a:solidFill>
            <a:srgbClr val="ffb8f2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Éduquer et soutenir les patients atteints du VIH / SIDA  dans un contexte linguistique et culturel approprié aux peuples africain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Créer une organisation et une communauté stable pour répondre à l'impact des effets du VIH / SIDA à travers le développement, le partenariat, la croissance et le développement communautaire.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60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99"/>
                </a:solidFill>
                <a:latin typeface="Century Gothic"/>
              </a:rPr>
              <a:t>Respecter les valeurs et les traditions culturelles et  répondre aux besoins de services </a:t>
            </a: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 u="sng">
                <a:solidFill>
                  <a:srgbClr val="000099"/>
                </a:solidFill>
                <a:uFillTx/>
                <a:latin typeface="Century Gothic"/>
              </a:rPr>
              <a:t>L’immigration des Noirs 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ébute en1605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e 1628  à 1800 : Esclaves Noirs sur la côte Est.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À partir de 1900 :le nombre d’immigrants augment lentement, 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600" spc="-1" strike="noStrike">
                <a:solidFill>
                  <a:srgbClr val="000099"/>
                </a:solidFill>
                <a:latin typeface="Century Gothic"/>
              </a:rPr>
              <a:t>Dès 1960 : Augmentation considérable avec la réforme de politique d’immigration.</a:t>
            </a: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Title 1" descr=""/>
          <p:cNvPicPr/>
          <p:nvPr/>
        </p:nvPicPr>
        <p:blipFill>
          <a:blip r:embed="rId1"/>
          <a:stretch/>
        </p:blipFill>
        <p:spPr>
          <a:xfrm>
            <a:off x="457200" y="122400"/>
            <a:ext cx="8229600" cy="180972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 txBox="1"/>
          <p:nvPr/>
        </p:nvSpPr>
        <p:spPr>
          <a:xfrm>
            <a:off x="457200" y="1882800"/>
            <a:ext cx="8229600" cy="457200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Qui so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D’où vienne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s’identifie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reconnait-on un LGBTQ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bien arrivent-ils en moyenne chaque année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Lieux de rencontr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Programme LGBTQ à APAA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 txBox="1"/>
          <p:nvPr/>
        </p:nvSpPr>
        <p:spPr>
          <a:xfrm>
            <a:off x="468000" y="259920"/>
            <a:ext cx="8218440" cy="6194520"/>
          </a:xfrm>
          <a:prstGeom prst="rect">
            <a:avLst/>
          </a:prstGeom>
          <a:solidFill>
            <a:srgbClr val="ffe8e8"/>
          </a:solidFill>
          <a:ln w="0">
            <a:noFill/>
          </a:ln>
        </p:spPr>
        <p:txBody>
          <a:bodyPr anchor="t">
            <a:normAutofit/>
          </a:bodyPr>
          <a:p>
            <a:pPr marL="447840" indent="-382680" algn="ctr"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00"/>
                </a:solidFill>
                <a:latin typeface="Century Gothic"/>
              </a:rPr>
              <a:t>Qui sont-ils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Ils sont des Afro-Caribéens qui s’identifient  comme Lesbiennes, Gays, Bisexuels, Transexuels et en questionnement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D’où viennent-il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	</a:t>
            </a:r>
            <a:r>
              <a:rPr b="1" lang="fr-CA" sz="2800" spc="-1" strike="noStrike">
                <a:solidFill>
                  <a:srgbClr val="0d0d0d"/>
                </a:solidFill>
                <a:latin typeface="Century Gothic"/>
              </a:rPr>
              <a:t>Des divers pays d’Afrique et des Caraïbes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buClr>
                <a:srgbClr val="ff4040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Comment s’identifient-ils?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  <a:p>
            <a:pPr marL="447840" indent="-382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	</a:t>
            </a:r>
            <a:r>
              <a:rPr b="1" lang="fr-CA" sz="2800" spc="-1" strike="noStrike">
                <a:solidFill>
                  <a:srgbClr val="000099"/>
                </a:solidFill>
                <a:latin typeface="Century Gothic"/>
              </a:rPr>
              <a:t>Se voient différents des autres de par leur orientation sexuelle.</a:t>
            </a:r>
            <a:endParaRPr b="0" lang="en-US" sz="28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2" descr=""/>
          <p:cNvPicPr/>
          <p:nvPr/>
        </p:nvPicPr>
        <p:blipFill>
          <a:blip r:embed="rId1"/>
          <a:stretch/>
        </p:blipFill>
        <p:spPr>
          <a:xfrm>
            <a:off x="-85680" y="1895400"/>
            <a:ext cx="2878200" cy="113976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2" descr=""/>
          <p:cNvPicPr/>
          <p:nvPr/>
        </p:nvPicPr>
        <p:blipFill>
          <a:blip r:embed="rId2"/>
          <a:stretch/>
        </p:blipFill>
        <p:spPr>
          <a:xfrm>
            <a:off x="96840" y="4127400"/>
            <a:ext cx="2232000" cy="218772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2" descr=""/>
          <p:cNvPicPr/>
          <p:nvPr/>
        </p:nvPicPr>
        <p:blipFill>
          <a:blip r:embed="rId3"/>
          <a:stretch/>
        </p:blipFill>
        <p:spPr>
          <a:xfrm>
            <a:off x="6523200" y="4127400"/>
            <a:ext cx="2541600" cy="2187720"/>
          </a:xfrm>
          <a:prstGeom prst="rect">
            <a:avLst/>
          </a:prstGeom>
          <a:ln w="0">
            <a:noFill/>
          </a:ln>
        </p:spPr>
      </p:pic>
      <p:pic>
        <p:nvPicPr>
          <p:cNvPr id="370" name="Picture 2" descr=""/>
          <p:cNvPicPr/>
          <p:nvPr/>
        </p:nvPicPr>
        <p:blipFill>
          <a:blip r:embed="rId4"/>
          <a:stretch/>
        </p:blipFill>
        <p:spPr>
          <a:xfrm>
            <a:off x="92160" y="262080"/>
            <a:ext cx="2431800" cy="18842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2" descr=""/>
          <p:cNvPicPr/>
          <p:nvPr/>
        </p:nvPicPr>
        <p:blipFill>
          <a:blip r:embed="rId5"/>
          <a:stretch/>
        </p:blipFill>
        <p:spPr>
          <a:xfrm>
            <a:off x="6480000" y="262080"/>
            <a:ext cx="2584800" cy="2279520"/>
          </a:xfrm>
          <a:prstGeom prst="rect">
            <a:avLst/>
          </a:prstGeom>
          <a:ln w="0">
            <a:noFill/>
          </a:ln>
        </p:spPr>
      </p:pic>
      <p:sp>
        <p:nvSpPr>
          <p:cNvPr id="372" name="Title 2"/>
          <p:cNvSpPr/>
          <p:nvPr/>
        </p:nvSpPr>
        <p:spPr>
          <a:xfrm>
            <a:off x="6394320" y="2428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Ga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itle 2"/>
          <p:cNvSpPr/>
          <p:nvPr/>
        </p:nvSpPr>
        <p:spPr>
          <a:xfrm>
            <a:off x="-158760" y="6046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Bisex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itle 2"/>
          <p:cNvSpPr/>
          <p:nvPr/>
        </p:nvSpPr>
        <p:spPr>
          <a:xfrm>
            <a:off x="6410160" y="6046920"/>
            <a:ext cx="274644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Transexu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Title 2"/>
          <p:cNvSpPr/>
          <p:nvPr/>
        </p:nvSpPr>
        <p:spPr>
          <a:xfrm>
            <a:off x="3168720" y="4233960"/>
            <a:ext cx="2747880" cy="10382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entury Gothic"/>
              </a:rPr>
              <a:t>Questionn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6" name="Picture 2" descr=""/>
          <p:cNvPicPr/>
          <p:nvPr/>
        </p:nvPicPr>
        <p:blipFill>
          <a:blip r:embed="rId6"/>
          <a:stretch/>
        </p:blipFill>
        <p:spPr>
          <a:xfrm>
            <a:off x="3462480" y="1932120"/>
            <a:ext cx="2157120" cy="2652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 txBox="1"/>
          <p:nvPr/>
        </p:nvSpPr>
        <p:spPr>
          <a:xfrm>
            <a:off x="468000" y="259920"/>
            <a:ext cx="8218440" cy="619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822240" indent="-285840">
              <a:spcBef>
                <a:spcPts val="649"/>
              </a:spcBef>
              <a:buClr>
                <a:srgbClr val="ff4040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  <a:p>
            <a:pPr lvl="2" marL="1104840" indent="-228600">
              <a:spcBef>
                <a:spcPts val="601"/>
              </a:spcBef>
              <a:buClr>
                <a:srgbClr val="ff4040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8" name="Content Placeholder 2"/>
          <p:cNvSpPr/>
          <p:nvPr/>
        </p:nvSpPr>
        <p:spPr>
          <a:xfrm>
            <a:off x="684360" y="476280"/>
            <a:ext cx="8218440" cy="6194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0099"/>
                </a:solidFill>
                <a:latin typeface="Century Gothic"/>
              </a:rPr>
              <a:t>Comment reconnait –on un LGBTQ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Il n’ya pas une façon ou une autre de comment reconnaitre un LGBTQ, car ils sont comme tout le monde, par contre d’autres s’affichent par leurs façons de faire ou d’agir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buClr>
                <a:srgbClr val="ff404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Combien arrivent-ils en moyenne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000" spc="-1" strike="noStrike">
                <a:solidFill>
                  <a:srgbClr val="001a4f"/>
                </a:solidFill>
                <a:latin typeface="Century Gothic"/>
              </a:rPr>
              <a:t>A APAA nous voyons 18 personnes en moyenne par mois et, ils sont entre 18 à 30 ans et plus tous, africains et caribéens en majorité de religion chrétienne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47840" indent="-3826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19:17:27Z</dcterms:created>
  <dc:creator>felsoni</dc:creator>
  <dc:description/>
  <dc:language>en-US</dc:language>
  <cp:lastModifiedBy>ltshiswaka</cp:lastModifiedBy>
  <dcterms:modified xsi:type="dcterms:W3CDTF">2013-11-11T22:04:22Z</dcterms:modified>
  <cp:revision>141</cp:revision>
  <dc:subject/>
  <dc:title>Comportement sexuel relatif au VIH/SIDA</dc:title>
</cp:coreProperties>
</file>